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872-D1C7-45E2-8C98-47B7BC35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1058-ADD6-477A-B4BC-8155AA49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321B-EB45-487D-9CA8-674BE13F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ACF-1E30-44A3-AB61-B4F50305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AB9-753D-42A4-A757-DF87BA73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B82-3265-4E20-9CB6-B2F0EF79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31CA-C8FD-4824-BA90-A876DA2B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9A98-A19B-430E-AB27-E377F73F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31C-E874-4560-BEDD-441D2BD2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2F5-2461-4BE2-8FB7-3408804A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312-FDE2-47F5-8D36-81C2637C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9773-DE54-42C0-8478-25327F7F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87DD-C369-40BB-A963-34E9D83BBFE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676520"/>
            <a:ext cx="774684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man Lu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á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cknowled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05T06:17:08Z</dcterms:modified>
  <cp:revision>150</cp:revision>
  <dc:subject/>
  <dc:title>Alphabets, Strings, and Languages</dc:title>
</cp:coreProperties>
</file>